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-360" y="-11457000"/>
            <a:ext cx="360" cy="243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70F1-E05C-4A5B-B860-1DB87CA6B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AECF-9D96-4581-97D9-65059DDF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3C78-72FB-40BC-8B45-A7EE8CE1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BCC9-655F-434D-883D-B41756CD8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2E95-FC33-4E3A-8696-83FE4F62E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81FC-336C-4D01-B3E7-ADBCF8EF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3786-8D73-4D57-AB32-665C7290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6A9B-87F3-43B7-9108-8074C2A8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1768-686A-4269-B9EA-D9FE64E8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129960"/>
            <a:ext cx="82263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ADF2-9366-4ED8-9279-8DB4FB09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00BB-3C53-4569-B6F2-AAAB065C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589C-6279-44D2-B4EF-DBBB89D2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36C6-1417-48DD-BE59-E0118BA5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BC08-60E7-4618-B651-02BCC743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9A4D-E6F1-4105-843F-A189FE30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2E48-DF6B-41BA-984A-EA485AED7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3E25-22A9-4803-B95F-AD718F1BB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643E7-C8EF-4E77-A038-8D7D6CC8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93A1D-F8E1-41C3-9CA0-8A262740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23D08-30A1-4C15-BC2F-E6371158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0B75A-3124-4F54-B454-E0D597E6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86051-32E4-4451-B54B-C5A4F892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7F34-9AAE-434C-AF90-3D1B2AC2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6840" y="129960"/>
            <a:ext cx="82263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DBC2C-E8F9-415D-AFFD-C56A9E82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28BE7-D7C7-4C46-9CD9-49491B2B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BE27C-0A1F-4A8F-9969-0E356EA0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97636-7CF7-4150-BC7F-9A429D4E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C078F-0371-443C-A6F8-8187310F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9DE67-EDF0-4CD1-B67E-2CD71E21C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7B3D9-1FE1-40DA-89FD-629C13A4F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DF05-A434-4721-B95F-6F557476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ECFF-4110-4B6A-B2C5-8AE6ADB9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9960"/>
            <a:ext cx="82263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1CF9-4CD4-410E-A2A9-E3481531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2555-CAF1-429A-99E3-24BB294B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556D-FEC8-46CA-A4FF-F4129DDA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1D37-CCB4-445A-AA56-BCD7BCAB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283db7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283db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283db7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283db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283db7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10D68-5A05-4862-8E27-B8527903F4D2}" type="slidenum">
              <a:rPr b="0" lang="en-US" sz="1400" spc="-1" strike="noStrike">
                <a:solidFill>
                  <a:srgbClr val="283db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46880" cy="6849720"/>
            <a:chOff x="1440" y="0"/>
            <a:chExt cx="9146880" cy="6849720"/>
          </a:xfrm>
        </p:grpSpPr>
        <p:sp>
          <p:nvSpPr>
            <p:cNvPr id="42" name=""/>
            <p:cNvSpPr/>
            <p:nvPr/>
          </p:nvSpPr>
          <p:spPr>
            <a:xfrm>
              <a:off x="8007120" y="4167720"/>
              <a:ext cx="1141200" cy="268200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548560" y="6021360"/>
              <a:ext cx="599760" cy="82836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15120" y="6688440"/>
              <a:ext cx="133200" cy="16128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56840" y="0"/>
              <a:ext cx="8089200" cy="6848640"/>
              <a:chOff x="456840" y="0"/>
              <a:chExt cx="8089200" cy="6848640"/>
            </a:xfrm>
          </p:grpSpPr>
          <p:sp>
            <p:nvSpPr>
              <p:cNvPr id="46" name=""/>
              <p:cNvSpPr/>
              <p:nvPr/>
            </p:nvSpPr>
            <p:spPr>
              <a:xfrm>
                <a:off x="4425480" y="0"/>
                <a:ext cx="113760" cy="684864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01400" y="0"/>
                <a:ext cx="275760" cy="684864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28000" y="0"/>
                <a:ext cx="534600" cy="684864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32720" y="0"/>
                <a:ext cx="677520" cy="684864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261120" y="0"/>
                <a:ext cx="884880" cy="684864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7400" y="0"/>
                <a:ext cx="1094400" cy="684864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75160" y="0"/>
                <a:ext cx="1370880" cy="684864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06280" y="0"/>
                <a:ext cx="237600" cy="684864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20840" y="0"/>
                <a:ext cx="475920" cy="684864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84720" y="0"/>
                <a:ext cx="674280" cy="684864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89560" y="0"/>
                <a:ext cx="912240" cy="684864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13840" y="0"/>
                <a:ext cx="1169280" cy="684864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6840" y="0"/>
                <a:ext cx="1332720" cy="684864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000" y="4604400"/>
              <a:ext cx="961920" cy="224532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000" y="6174000"/>
              <a:ext cx="361800" cy="67572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80160" y="0"/>
              <a:ext cx="1561680" cy="283464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00640" y="0"/>
              <a:ext cx="1141200" cy="134100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94560" y="0"/>
              <a:ext cx="647280" cy="65700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000" y="0"/>
              <a:ext cx="1361880" cy="223596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000" y="0"/>
              <a:ext cx="933120" cy="95040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000" y="0"/>
              <a:ext cx="428400" cy="39960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0" y="436284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0" y="373896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0" y="49867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440" y="622080"/>
              <a:ext cx="9137520" cy="2492640"/>
              <a:chOff x="1440" y="622080"/>
              <a:chExt cx="9137520" cy="2492640"/>
            </a:xfrm>
          </p:grpSpPr>
          <p:sp>
            <p:nvSpPr>
              <p:cNvPr id="71" name=""/>
              <p:cNvSpPr/>
              <p:nvPr/>
            </p:nvSpPr>
            <p:spPr>
              <a:xfrm>
                <a:off x="1440" y="124344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0" y="311328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0" y="248976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0" y="186660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0" y="622080"/>
                <a:ext cx="9137520" cy="108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440" y="62341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561024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7FE3457-4C32-4600-B727-2D1AC0495F7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6880" cy="6849720"/>
            <a:chOff x="0" y="0"/>
            <a:chExt cx="9146880" cy="6849720"/>
          </a:xfrm>
        </p:grpSpPr>
        <p:sp>
          <p:nvSpPr>
            <p:cNvPr id="120" name=""/>
            <p:cNvSpPr/>
            <p:nvPr/>
          </p:nvSpPr>
          <p:spPr>
            <a:xfrm>
              <a:off x="8006040" y="4167720"/>
              <a:ext cx="1140840" cy="268200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47120" y="6021360"/>
              <a:ext cx="599760" cy="82836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14040" y="6688440"/>
              <a:ext cx="132840" cy="16128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55400" y="0"/>
              <a:ext cx="8089560" cy="6848640"/>
              <a:chOff x="455400" y="0"/>
              <a:chExt cx="8089560" cy="6848640"/>
            </a:xfrm>
          </p:grpSpPr>
          <p:sp>
            <p:nvSpPr>
              <p:cNvPr id="124" name=""/>
              <p:cNvSpPr/>
              <p:nvPr/>
            </p:nvSpPr>
            <p:spPr>
              <a:xfrm>
                <a:off x="4424040" y="0"/>
                <a:ext cx="114120" cy="684864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99960" y="0"/>
                <a:ext cx="276120" cy="684864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26920" y="0"/>
                <a:ext cx="534960" cy="684864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1640" y="0"/>
                <a:ext cx="677520" cy="684864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60040" y="0"/>
                <a:ext cx="885600" cy="684864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35960" y="0"/>
                <a:ext cx="1094760" cy="684864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74080" y="0"/>
                <a:ext cx="1370880" cy="684864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5200" y="0"/>
                <a:ext cx="237600" cy="684864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19760" y="0"/>
                <a:ext cx="475560" cy="684864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82920" y="0"/>
                <a:ext cx="674280" cy="684864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88120" y="0"/>
                <a:ext cx="912240" cy="684864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12040" y="0"/>
                <a:ext cx="1169280" cy="684864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5400" y="0"/>
                <a:ext cx="1332720" cy="684864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560" y="4604400"/>
              <a:ext cx="961560" cy="224532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60" y="6174000"/>
              <a:ext cx="361440" cy="67572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78720" y="0"/>
              <a:ext cx="1562040" cy="283464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99560" y="0"/>
              <a:ext cx="1141200" cy="134100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3120" y="0"/>
              <a:ext cx="647640" cy="65700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60" y="0"/>
              <a:ext cx="1361880" cy="223596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60" y="0"/>
              <a:ext cx="933120" cy="95040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0" y="0"/>
              <a:ext cx="428400" cy="39960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436284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373896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49867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22080"/>
              <a:ext cx="9137880" cy="2492640"/>
              <a:chOff x="0" y="622080"/>
              <a:chExt cx="9137880" cy="249264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124344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11328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48976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186660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22080"/>
                <a:ext cx="9137880" cy="108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0" y="62341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61024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692000"/>
            <a:ext cx="7769160" cy="173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457200" y="624348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553080" y="624348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094DD58-1961-4484-A0BF-E6991D37B99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0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0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0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20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7200" spc="-1" strike="noStrike" u="sng">
                <a:solidFill>
                  <a:srgbClr val="ffff00"/>
                </a:solidFill>
                <a:uFillTx/>
                <a:latin typeface="Arial"/>
              </a:rPr>
              <a:t>Новая Зеландия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4475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Сфера обслужи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098440"/>
            <a:ext cx="40384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Развивается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туриз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В сфере обслуживания работает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71%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насел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003640" y="414360"/>
            <a:ext cx="4011840" cy="30099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233880" y="3749760"/>
            <a:ext cx="4182840" cy="2873160"/>
          </a:xfrm>
          <a:prstGeom prst="rect">
            <a:avLst/>
          </a:prstGeom>
          <a:ln w="0">
            <a:noFill/>
          </a:ln>
        </p:spPr>
      </p:pic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8244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91208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232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Транспорт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38480" cy="54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Длина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железнодорожных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путей 4200 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Длина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шоссейных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дорог 93 300 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Паромные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маршруты  Веллингтон – о.Южны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Международные </a:t>
            </a: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аэропорты: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Окленд,   Крайстчерч, Веллингто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Морской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транспор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796000" y="998640"/>
            <a:ext cx="3173400" cy="25700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749840" y="3665520"/>
            <a:ext cx="3203640" cy="24051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8244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" action="ppaction://hlinkshowjump?jump=previousslide"/>
          </p:cNvPr>
          <p:cNvSpPr/>
          <p:nvPr/>
        </p:nvSpPr>
        <p:spPr>
          <a:xfrm>
            <a:off x="8085240" y="6308640"/>
            <a:ext cx="374400" cy="289080"/>
          </a:xfrm>
          <a:custGeom>
            <a:avLst/>
            <a:gdLst>
              <a:gd name="textAreaLeft" fmla="*/ 18720 w 374400"/>
              <a:gd name="textAreaRight" fmla="*/ 355680 w 3744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7967" h="21600">
                <a:moveTo>
                  <a:pt x="0" y="0"/>
                </a:moveTo>
                <a:lnTo>
                  <a:pt x="27967" y="0"/>
                </a:lnTo>
                <a:lnTo>
                  <a:pt x="27967" y="21600"/>
                </a:lnTo>
                <a:lnTo>
                  <a:pt x="0" y="21600"/>
                </a:lnTo>
                <a:close/>
              </a:path>
              <a:path fill="lightenLess" w="27967" h="21600">
                <a:moveTo>
                  <a:pt x="0" y="0"/>
                </a:moveTo>
                <a:lnTo>
                  <a:pt x="27967" y="0"/>
                </a:lnTo>
                <a:lnTo>
                  <a:pt x="26567" y="1400"/>
                </a:lnTo>
                <a:lnTo>
                  <a:pt x="1400" y="1400"/>
                </a:lnTo>
                <a:close/>
              </a:path>
              <a:path fill="darken" w="27967" h="21600">
                <a:moveTo>
                  <a:pt x="27967" y="0"/>
                </a:moveTo>
                <a:lnTo>
                  <a:pt x="27967" y="21600"/>
                </a:lnTo>
                <a:lnTo>
                  <a:pt x="26567" y="20200"/>
                </a:lnTo>
                <a:lnTo>
                  <a:pt x="26567" y="1400"/>
                </a:lnTo>
                <a:close/>
              </a:path>
              <a:path fill="darkenLess" w="27967" h="21600">
                <a:moveTo>
                  <a:pt x="279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7" y="20200"/>
                </a:lnTo>
                <a:close/>
              </a:path>
              <a:path fill="lighten" w="279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7" h="21600">
                <a:moveTo>
                  <a:pt x="6977" y="10800"/>
                </a:moveTo>
                <a:lnTo>
                  <a:pt x="20990" y="3794"/>
                </a:lnTo>
                <a:lnTo>
                  <a:pt x="20990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560" y="-95760"/>
            <a:ext cx="627516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Столица – Веллингтон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Город расположен на северном берегу пролива Кука, в бухте Потр – Никольсон.    Площадь125 кв. км.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Население 158 тыс. чел.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24000" y="3645000"/>
            <a:ext cx="3809880" cy="30286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6477120" y="620640"/>
            <a:ext cx="2143080" cy="25923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427640" y="3500280"/>
            <a:ext cx="4392360" cy="18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В сентябре 1839 года группа белых переселенцев приобрела у местного племени маори участок, на котором был построен город, названный в честь фельдмаршала </a:t>
            </a:r>
            <a:r>
              <a:rPr b="0" i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Веллингтона,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командовавшего английскими войсками в сражении при Ватерло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" action="ppaction://hlinkshowjump?jump=nextslide"/>
          </p:cNvPr>
          <p:cNvSpPr/>
          <p:nvPr/>
        </p:nvSpPr>
        <p:spPr>
          <a:xfrm>
            <a:off x="8459640" y="623736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" action="ppaction://hlinkshowjump?jump=previousslide"/>
          </p:cNvPr>
          <p:cNvSpPr/>
          <p:nvPr/>
        </p:nvSpPr>
        <p:spPr>
          <a:xfrm>
            <a:off x="8039160" y="6237360"/>
            <a:ext cx="349200" cy="288720"/>
          </a:xfrm>
          <a:custGeom>
            <a:avLst/>
            <a:gdLst>
              <a:gd name="textAreaLeft" fmla="*/ 18720 w 349200"/>
              <a:gd name="textAreaRight" fmla="*/ 330480 w 3492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175600" y="578484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-149400"/>
            <a:ext cx="8218440" cy="27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Вклад в цивилизацию. </a:t>
            </a:r>
            <a:br>
              <a:rPr sz="1800"/>
            </a:b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Эрнст Резерфорд</a:t>
            </a:r>
            <a:br>
              <a:rPr sz="3600"/>
            </a:b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(1871 – 1937</a:t>
            </a:r>
            <a:r>
              <a:rPr b="0" i="1" lang="en-US" sz="3600" spc="-1" strike="noStrike">
                <a:solidFill>
                  <a:srgbClr val="ccecff"/>
                </a:solidFill>
                <a:latin typeface="Arial"/>
              </a:rPr>
              <a:t>) </a:t>
            </a:r>
            <a:br>
              <a:rPr sz="36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2873520" cy="4525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106800" y="2562120"/>
            <a:ext cx="586260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Величайший физик – экспериментатор двадцатого столе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Центральная фигура в познании радиоактивности, заложил основы ядерной физики. Его открытия получили широкий спектр применения, включая ядерное оружие, атомные электростанции, радиоактивные исчисления, исследования ради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1708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86043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8153280" y="6308640"/>
            <a:ext cx="379440" cy="289080"/>
          </a:xfrm>
          <a:custGeom>
            <a:avLst/>
            <a:gdLst>
              <a:gd name="textAreaLeft" fmla="*/ 18720 w 379440"/>
              <a:gd name="textAreaRight" fmla="*/ 360720 w 379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8343" h="21600">
                <a:moveTo>
                  <a:pt x="0" y="0"/>
                </a:moveTo>
                <a:lnTo>
                  <a:pt x="28343" y="0"/>
                </a:lnTo>
                <a:lnTo>
                  <a:pt x="28343" y="21600"/>
                </a:lnTo>
                <a:lnTo>
                  <a:pt x="0" y="21600"/>
                </a:lnTo>
                <a:close/>
              </a:path>
              <a:path fill="lightenLess" w="28343" h="21600">
                <a:moveTo>
                  <a:pt x="0" y="0"/>
                </a:moveTo>
                <a:lnTo>
                  <a:pt x="28343" y="0"/>
                </a:lnTo>
                <a:lnTo>
                  <a:pt x="26943" y="1400"/>
                </a:lnTo>
                <a:lnTo>
                  <a:pt x="1400" y="1400"/>
                </a:lnTo>
                <a:close/>
              </a:path>
              <a:path fill="darken" w="28343" h="21600">
                <a:moveTo>
                  <a:pt x="28343" y="0"/>
                </a:moveTo>
                <a:lnTo>
                  <a:pt x="28343" y="21600"/>
                </a:lnTo>
                <a:lnTo>
                  <a:pt x="26943" y="20200"/>
                </a:lnTo>
                <a:lnTo>
                  <a:pt x="26943" y="1400"/>
                </a:lnTo>
                <a:close/>
              </a:path>
              <a:path fill="darkenLess" w="28343" h="21600">
                <a:moveTo>
                  <a:pt x="28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43" y="20200"/>
                </a:lnTo>
                <a:close/>
              </a:path>
              <a:path fill="lighten" w="28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43" h="21600">
                <a:moveTo>
                  <a:pt x="7165" y="10800"/>
                </a:moveTo>
                <a:lnTo>
                  <a:pt x="21178" y="3794"/>
                </a:lnTo>
                <a:lnTo>
                  <a:pt x="21178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6000" y="248760"/>
            <a:ext cx="8720280" cy="23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Культура. </a:t>
            </a:r>
            <a:br>
              <a:rPr sz="36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Отражены элементы европейских, полинезийских, азиатских культурных традиций, привнесенных выходцами из многих стран мира, поселившимися здесь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37960" y="2585880"/>
            <a:ext cx="2246400" cy="32194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7308720" y="2732040"/>
            <a:ext cx="1457280" cy="17049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2743200" y="3503520"/>
            <a:ext cx="4343400" cy="2948040"/>
          </a:xfrm>
          <a:prstGeom prst="rect">
            <a:avLst/>
          </a:prstGeom>
          <a:ln w="0">
            <a:noFill/>
          </a:ln>
        </p:spPr>
      </p:pic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845964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7983360" y="6308640"/>
            <a:ext cx="335160" cy="289080"/>
          </a:xfrm>
          <a:custGeom>
            <a:avLst/>
            <a:gdLst>
              <a:gd name="textAreaLeft" fmla="*/ 18720 w 335160"/>
              <a:gd name="textAreaRight" fmla="*/ 316440 w 3351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5039" h="21600">
                <a:moveTo>
                  <a:pt x="0" y="0"/>
                </a:moveTo>
                <a:lnTo>
                  <a:pt x="25039" y="0"/>
                </a:lnTo>
                <a:lnTo>
                  <a:pt x="25039" y="21600"/>
                </a:lnTo>
                <a:lnTo>
                  <a:pt x="0" y="21600"/>
                </a:lnTo>
                <a:close/>
              </a:path>
              <a:path fill="lightenLess" w="25039" h="21600">
                <a:moveTo>
                  <a:pt x="0" y="0"/>
                </a:moveTo>
                <a:lnTo>
                  <a:pt x="25039" y="0"/>
                </a:lnTo>
                <a:lnTo>
                  <a:pt x="23639" y="1400"/>
                </a:lnTo>
                <a:lnTo>
                  <a:pt x="1400" y="1400"/>
                </a:lnTo>
                <a:close/>
              </a:path>
              <a:path fill="darken" w="25039" h="21600">
                <a:moveTo>
                  <a:pt x="25039" y="0"/>
                </a:moveTo>
                <a:lnTo>
                  <a:pt x="25039" y="21600"/>
                </a:lnTo>
                <a:lnTo>
                  <a:pt x="23639" y="20200"/>
                </a:lnTo>
                <a:lnTo>
                  <a:pt x="23639" y="1400"/>
                </a:lnTo>
                <a:close/>
              </a:path>
              <a:path fill="darkenLess" w="25039" h="21600">
                <a:moveTo>
                  <a:pt x="25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9" y="20200"/>
                </a:lnTo>
                <a:close/>
              </a:path>
              <a:path fill="lighten" w="25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9" h="21600">
                <a:moveTo>
                  <a:pt x="5513" y="10800"/>
                </a:moveTo>
                <a:lnTo>
                  <a:pt x="19526" y="3794"/>
                </a:lnTo>
                <a:lnTo>
                  <a:pt x="1952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798360" y="271080"/>
            <a:ext cx="517068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На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уровне высочайших стандартов поддерживается архитектура, симфоническая и современная музыка, театр и кино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Рассел Кроу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br>
              <a:rPr sz="40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популярный актер, ставший кумиром киноманов после получения «Оскара» за исполнение главной роли в фильме «Гладиатор»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3240000" cy="4589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8244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" action="ppaction://hlinkshowjump?jump=previousslide"/>
          </p:cNvPr>
          <p:cNvSpPr/>
          <p:nvPr/>
        </p:nvSpPr>
        <p:spPr>
          <a:xfrm>
            <a:off x="831708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содержани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Особенности насел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Форма правл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Географическое положени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Особенности рельеф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Клима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Промышленнос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Сельское хозяйств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Сфера обслужива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Транспор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Столиц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Вклад в цивилизацию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Культур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0" y="1989000"/>
            <a:ext cx="4248000" cy="3222720"/>
          </a:xfrm>
          <a:prstGeom prst="rect">
            <a:avLst/>
          </a:prstGeom>
          <a:ln w="0">
            <a:noFill/>
          </a:ln>
        </p:spPr>
      </p:pic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7524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7075440" y="6308640"/>
            <a:ext cx="376200" cy="289080"/>
          </a:xfrm>
          <a:custGeom>
            <a:avLst/>
            <a:gdLst>
              <a:gd name="textAreaLeft" fmla="*/ 18720 w 376200"/>
              <a:gd name="textAreaRight" fmla="*/ 357480 w 3762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8101" h="21600">
                <a:moveTo>
                  <a:pt x="0" y="0"/>
                </a:moveTo>
                <a:lnTo>
                  <a:pt x="28101" y="0"/>
                </a:lnTo>
                <a:lnTo>
                  <a:pt x="28101" y="21600"/>
                </a:lnTo>
                <a:lnTo>
                  <a:pt x="0" y="21600"/>
                </a:lnTo>
                <a:close/>
              </a:path>
              <a:path fill="lightenLess" w="28101" h="21600">
                <a:moveTo>
                  <a:pt x="0" y="0"/>
                </a:moveTo>
                <a:lnTo>
                  <a:pt x="28101" y="0"/>
                </a:lnTo>
                <a:lnTo>
                  <a:pt x="26701" y="1400"/>
                </a:lnTo>
                <a:lnTo>
                  <a:pt x="1400" y="1400"/>
                </a:lnTo>
                <a:close/>
              </a:path>
              <a:path fill="darken" w="28101" h="21600">
                <a:moveTo>
                  <a:pt x="28101" y="0"/>
                </a:moveTo>
                <a:lnTo>
                  <a:pt x="28101" y="21600"/>
                </a:lnTo>
                <a:lnTo>
                  <a:pt x="26701" y="20200"/>
                </a:lnTo>
                <a:lnTo>
                  <a:pt x="26701" y="1400"/>
                </a:lnTo>
                <a:close/>
              </a:path>
              <a:path fill="darkenLess" w="28101" h="21600">
                <a:moveTo>
                  <a:pt x="28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01" y="20200"/>
                </a:lnTo>
                <a:close/>
              </a:path>
              <a:path fill="lighten" w="28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01" h="21600">
                <a:moveTo>
                  <a:pt x="7044" y="10800"/>
                </a:moveTo>
                <a:lnTo>
                  <a:pt x="21057" y="3794"/>
                </a:lnTo>
                <a:lnTo>
                  <a:pt x="21057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5757840" cy="64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1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Площадь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269 675 кв.к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91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Население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3 620 000 че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2600">
              <a:lnSpc>
                <a:spcPct val="102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Средняя плотность населения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12 чел/кв.к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2600">
              <a:lnSpc>
                <a:spcPct val="102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Средняя продолжительность жизни: 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мужчины – 75 лет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женщины – 80 ле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91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Состав: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европейцы – 88%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маори – 9%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жители островов Тихого океана – 3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327640" y="0"/>
            <a:ext cx="3816360" cy="2290680"/>
          </a:xfrm>
          <a:prstGeom prst="rect">
            <a:avLst/>
          </a:prstGeom>
          <a:ln w="0">
            <a:noFill/>
          </a:ln>
        </p:spPr>
      </p:pic>
      <p:sp>
        <p:nvSpPr>
          <p:cNvPr id="210" name="">
            <a:hlinkClick r:id="rId2" action="ppaction://hlinksldjump"/>
          </p:cNvPr>
          <p:cNvSpPr/>
          <p:nvPr/>
        </p:nvSpPr>
        <p:spPr>
          <a:xfrm>
            <a:off x="7236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700884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4043520" cy="63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Форма правления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конституционная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монарх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Глава государства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 королева Великобритании, представленная генерал – губернатор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Государственный язык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английск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Религия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христианств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338800" y="1031760"/>
            <a:ext cx="3279600" cy="362124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7064280" y="6308640"/>
            <a:ext cx="376200" cy="289080"/>
          </a:xfrm>
          <a:custGeom>
            <a:avLst/>
            <a:gdLst>
              <a:gd name="textAreaLeft" fmla="*/ 18720 w 376200"/>
              <a:gd name="textAreaRight" fmla="*/ 357480 w 3762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8101" h="21600">
                <a:moveTo>
                  <a:pt x="0" y="0"/>
                </a:moveTo>
                <a:lnTo>
                  <a:pt x="28101" y="0"/>
                </a:lnTo>
                <a:lnTo>
                  <a:pt x="28101" y="21600"/>
                </a:lnTo>
                <a:lnTo>
                  <a:pt x="0" y="21600"/>
                </a:lnTo>
                <a:close/>
              </a:path>
              <a:path fill="lightenLess" w="28101" h="21600">
                <a:moveTo>
                  <a:pt x="0" y="0"/>
                </a:moveTo>
                <a:lnTo>
                  <a:pt x="28101" y="0"/>
                </a:lnTo>
                <a:lnTo>
                  <a:pt x="26701" y="1400"/>
                </a:lnTo>
                <a:lnTo>
                  <a:pt x="1400" y="1400"/>
                </a:lnTo>
                <a:close/>
              </a:path>
              <a:path fill="darken" w="28101" h="21600">
                <a:moveTo>
                  <a:pt x="28101" y="0"/>
                </a:moveTo>
                <a:lnTo>
                  <a:pt x="28101" y="21600"/>
                </a:lnTo>
                <a:lnTo>
                  <a:pt x="26701" y="20200"/>
                </a:lnTo>
                <a:lnTo>
                  <a:pt x="26701" y="1400"/>
                </a:lnTo>
                <a:close/>
              </a:path>
              <a:path fill="darkenLess" w="28101" h="21600">
                <a:moveTo>
                  <a:pt x="28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01" y="20200"/>
                </a:lnTo>
                <a:close/>
              </a:path>
              <a:path fill="lighten" w="28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01" h="21600">
                <a:moveTo>
                  <a:pt x="7044" y="10800"/>
                </a:moveTo>
                <a:lnTo>
                  <a:pt x="21057" y="3794"/>
                </a:lnTo>
                <a:lnTo>
                  <a:pt x="21057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2" action="ppaction://hlinksldjump"/>
          </p:cNvPr>
          <p:cNvSpPr/>
          <p:nvPr/>
        </p:nvSpPr>
        <p:spPr>
          <a:xfrm>
            <a:off x="7236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40384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spcAft>
                <a:spcPts val="2837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Географическое положение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Оке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spcAft>
                <a:spcPts val="2837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рупнейшие острова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еверный и Ю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rId2" action="ppaction://hlinksldjump"/>
          </p:cNvPr>
          <p:cNvSpPr/>
          <p:nvPr/>
        </p:nvSpPr>
        <p:spPr>
          <a:xfrm>
            <a:off x="7236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previousslide"/>
          </p:cNvPr>
          <p:cNvSpPr/>
          <p:nvPr/>
        </p:nvSpPr>
        <p:spPr>
          <a:xfrm>
            <a:off x="7086600" y="6308640"/>
            <a:ext cx="353880" cy="289080"/>
          </a:xfrm>
          <a:custGeom>
            <a:avLst/>
            <a:gdLst>
              <a:gd name="textAreaLeft" fmla="*/ 18720 w 353880"/>
              <a:gd name="textAreaRight" fmla="*/ 335160 w 3538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436" h="21600">
                <a:moveTo>
                  <a:pt x="0" y="0"/>
                </a:moveTo>
                <a:lnTo>
                  <a:pt x="26436" y="0"/>
                </a:lnTo>
                <a:lnTo>
                  <a:pt x="26436" y="21600"/>
                </a:lnTo>
                <a:lnTo>
                  <a:pt x="0" y="21600"/>
                </a:lnTo>
                <a:close/>
              </a:path>
              <a:path fill="lightenLess" w="26436" h="21600">
                <a:moveTo>
                  <a:pt x="0" y="0"/>
                </a:moveTo>
                <a:lnTo>
                  <a:pt x="26436" y="0"/>
                </a:lnTo>
                <a:lnTo>
                  <a:pt x="25036" y="1400"/>
                </a:lnTo>
                <a:lnTo>
                  <a:pt x="1400" y="1400"/>
                </a:lnTo>
                <a:close/>
              </a:path>
              <a:path fill="darken" w="26436" h="21600">
                <a:moveTo>
                  <a:pt x="26436" y="0"/>
                </a:moveTo>
                <a:lnTo>
                  <a:pt x="26436" y="21600"/>
                </a:lnTo>
                <a:lnTo>
                  <a:pt x="25036" y="20200"/>
                </a:lnTo>
                <a:lnTo>
                  <a:pt x="25036" y="1400"/>
                </a:lnTo>
                <a:close/>
              </a:path>
              <a:path fill="darkenLess" w="26436" h="21600">
                <a:moveTo>
                  <a:pt x="26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36" y="20200"/>
                </a:lnTo>
                <a:close/>
              </a:path>
              <a:path fill="lighten" w="26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36" h="21600">
                <a:moveTo>
                  <a:pt x="6211" y="10800"/>
                </a:moveTo>
                <a:lnTo>
                  <a:pt x="20224" y="3794"/>
                </a:lnTo>
                <a:lnTo>
                  <a:pt x="20224" y="17806"/>
                </a:lnTo>
                <a:close/>
              </a:path>
            </a:pathLst>
          </a:cu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959280" y="2521080"/>
            <a:ext cx="5184720" cy="38890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Особенности рельеф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Гористые остров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Сейсмическая активнос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Действующие вулкан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Гейзер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Горячие минеральные источник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2556000" y="603576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39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39" y="20200"/>
                </a:lnTo>
                <a:lnTo>
                  <a:pt x="36339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39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39" h="21600">
                <a:moveTo>
                  <a:pt x="18870" y="3837"/>
                </a:moveTo>
                <a:lnTo>
                  <a:pt x="21446" y="6448"/>
                </a:lnTo>
                <a:lnTo>
                  <a:pt x="21446" y="4707"/>
                </a:lnTo>
                <a:lnTo>
                  <a:pt x="23222" y="4707"/>
                </a:lnTo>
                <a:lnTo>
                  <a:pt x="23222" y="8224"/>
                </a:lnTo>
                <a:lnTo>
                  <a:pt x="25833" y="10800"/>
                </a:lnTo>
                <a:lnTo>
                  <a:pt x="24179" y="10800"/>
                </a:lnTo>
                <a:lnTo>
                  <a:pt x="24179" y="17989"/>
                </a:lnTo>
                <a:lnTo>
                  <a:pt x="13560" y="17989"/>
                </a:lnTo>
                <a:lnTo>
                  <a:pt x="13560" y="10800"/>
                </a:lnTo>
                <a:lnTo>
                  <a:pt x="11907" y="10800"/>
                </a:lnTo>
                <a:close/>
              </a:path>
              <a:path fill="darkenLess" w="37739" h="21600">
                <a:moveTo>
                  <a:pt x="21446" y="6448"/>
                </a:moveTo>
                <a:lnTo>
                  <a:pt x="21446" y="4707"/>
                </a:lnTo>
                <a:lnTo>
                  <a:pt x="23222" y="4707"/>
                </a:lnTo>
                <a:lnTo>
                  <a:pt x="23222" y="8224"/>
                </a:lnTo>
                <a:close/>
              </a:path>
              <a:path fill="darkenLess" w="37739" h="21600">
                <a:moveTo>
                  <a:pt x="17947" y="14299"/>
                </a:moveTo>
                <a:lnTo>
                  <a:pt x="19792" y="14299"/>
                </a:lnTo>
                <a:lnTo>
                  <a:pt x="19792" y="17989"/>
                </a:lnTo>
                <a:lnTo>
                  <a:pt x="24179" y="17989"/>
                </a:lnTo>
                <a:lnTo>
                  <a:pt x="24179" y="10800"/>
                </a:lnTo>
                <a:lnTo>
                  <a:pt x="13560" y="10800"/>
                </a:lnTo>
                <a:lnTo>
                  <a:pt x="13560" y="17989"/>
                </a:lnTo>
                <a:lnTo>
                  <a:pt x="17947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2843280" y="6407280"/>
            <a:ext cx="360360" cy="282600"/>
          </a:xfrm>
          <a:custGeom>
            <a:avLst/>
            <a:gdLst>
              <a:gd name="textAreaLeft" fmla="*/ 18000 w 360360"/>
              <a:gd name="textAreaRight" fmla="*/ 342360 w 360360"/>
              <a:gd name="textAreaTop" fmla="*/ 18000 h 282600"/>
              <a:gd name="textAreaBottom" fmla="*/ 264600 h 282600"/>
            </a:gdLst>
            <a:ahLst/>
            <a:rect l="textAreaLeft" t="textAreaTop" r="textAreaRight" b="textAreaBottom"/>
            <a:pathLst>
              <a:path w="27536" h="21600">
                <a:moveTo>
                  <a:pt x="0" y="0"/>
                </a:moveTo>
                <a:lnTo>
                  <a:pt x="27536" y="0"/>
                </a:lnTo>
                <a:lnTo>
                  <a:pt x="27536" y="21600"/>
                </a:lnTo>
                <a:lnTo>
                  <a:pt x="0" y="21600"/>
                </a:lnTo>
                <a:close/>
              </a:path>
              <a:path fill="lightenLess" w="27536" h="21600">
                <a:moveTo>
                  <a:pt x="0" y="0"/>
                </a:moveTo>
                <a:lnTo>
                  <a:pt x="27536" y="0"/>
                </a:lnTo>
                <a:lnTo>
                  <a:pt x="26136" y="1400"/>
                </a:lnTo>
                <a:lnTo>
                  <a:pt x="1400" y="1400"/>
                </a:lnTo>
                <a:close/>
              </a:path>
              <a:path fill="darken" w="27536" h="21600">
                <a:moveTo>
                  <a:pt x="27536" y="0"/>
                </a:moveTo>
                <a:lnTo>
                  <a:pt x="27536" y="21600"/>
                </a:lnTo>
                <a:lnTo>
                  <a:pt x="26136" y="20200"/>
                </a:lnTo>
                <a:lnTo>
                  <a:pt x="26136" y="1400"/>
                </a:lnTo>
                <a:close/>
              </a:path>
              <a:path fill="darkenLess" w="27536" h="21600">
                <a:moveTo>
                  <a:pt x="27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36" y="20200"/>
                </a:lnTo>
                <a:close/>
              </a:path>
              <a:path fill="lighten" w="27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36" h="21600">
                <a:moveTo>
                  <a:pt x="6761" y="3794"/>
                </a:moveTo>
                <a:lnTo>
                  <a:pt x="20774" y="10800"/>
                </a:lnTo>
                <a:lnTo>
                  <a:pt x="6761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previousslide"/>
          </p:cNvPr>
          <p:cNvSpPr/>
          <p:nvPr/>
        </p:nvSpPr>
        <p:spPr>
          <a:xfrm>
            <a:off x="2392200" y="6396120"/>
            <a:ext cx="379440" cy="282600"/>
          </a:xfrm>
          <a:custGeom>
            <a:avLst/>
            <a:gdLst>
              <a:gd name="textAreaLeft" fmla="*/ 18000 w 379440"/>
              <a:gd name="textAreaRight" fmla="*/ 361440 w 379440"/>
              <a:gd name="textAreaTop" fmla="*/ 18000 h 282600"/>
              <a:gd name="textAreaBottom" fmla="*/ 264600 h 282600"/>
            </a:gdLst>
            <a:ahLst/>
            <a:rect l="textAreaLeft" t="textAreaTop" r="textAreaRight" b="textAreaBottom"/>
            <a:pathLst>
              <a:path w="28992" h="21600">
                <a:moveTo>
                  <a:pt x="0" y="0"/>
                </a:moveTo>
                <a:lnTo>
                  <a:pt x="28992" y="0"/>
                </a:lnTo>
                <a:lnTo>
                  <a:pt x="28992" y="21600"/>
                </a:lnTo>
                <a:lnTo>
                  <a:pt x="0" y="21600"/>
                </a:lnTo>
                <a:close/>
              </a:path>
              <a:path fill="lightenLess" w="28992" h="21600">
                <a:moveTo>
                  <a:pt x="0" y="0"/>
                </a:moveTo>
                <a:lnTo>
                  <a:pt x="28992" y="0"/>
                </a:lnTo>
                <a:lnTo>
                  <a:pt x="27592" y="1400"/>
                </a:lnTo>
                <a:lnTo>
                  <a:pt x="1400" y="1400"/>
                </a:lnTo>
                <a:close/>
              </a:path>
              <a:path fill="darken" w="28992" h="21600">
                <a:moveTo>
                  <a:pt x="28992" y="0"/>
                </a:moveTo>
                <a:lnTo>
                  <a:pt x="28992" y="21600"/>
                </a:lnTo>
                <a:lnTo>
                  <a:pt x="27592" y="20200"/>
                </a:lnTo>
                <a:lnTo>
                  <a:pt x="27592" y="1400"/>
                </a:lnTo>
                <a:close/>
              </a:path>
              <a:path fill="darkenLess" w="28992" h="21600">
                <a:moveTo>
                  <a:pt x="28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2" y="20200"/>
                </a:lnTo>
                <a:close/>
              </a:path>
              <a:path fill="lighten" w="28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92" h="21600">
                <a:moveTo>
                  <a:pt x="7490" y="10800"/>
                </a:moveTo>
                <a:lnTo>
                  <a:pt x="21503" y="3794"/>
                </a:lnTo>
                <a:lnTo>
                  <a:pt x="2150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6984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Климат: субтропический морской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Средние температуры июля 5 – 12 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Средние температуры января 14 – 19 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Осадки: 400 -600 мм в год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00720" y="2492280"/>
            <a:ext cx="4464000" cy="4233960"/>
          </a:xfrm>
          <a:prstGeom prst="rect">
            <a:avLst/>
          </a:prstGeom>
          <a:ln w="0">
            <a:noFill/>
          </a:ln>
        </p:spPr>
      </p:pic>
      <p:sp>
        <p:nvSpPr>
          <p:cNvPr id="232" name="">
            <a:hlinkClick r:id="rId2" action="ppaction://hlinksldjump"/>
          </p:cNvPr>
          <p:cNvSpPr/>
          <p:nvPr/>
        </p:nvSpPr>
        <p:spPr>
          <a:xfrm>
            <a:off x="2124000" y="5805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15133" y="3837"/>
                </a:moveTo>
                <a:lnTo>
                  <a:pt x="17709" y="6448"/>
                </a:lnTo>
                <a:lnTo>
                  <a:pt x="17709" y="4707"/>
                </a:lnTo>
                <a:lnTo>
                  <a:pt x="19485" y="4707"/>
                </a:lnTo>
                <a:lnTo>
                  <a:pt x="19485" y="8224"/>
                </a:lnTo>
                <a:lnTo>
                  <a:pt x="22096" y="10800"/>
                </a:lnTo>
                <a:lnTo>
                  <a:pt x="20442" y="10800"/>
                </a:lnTo>
                <a:lnTo>
                  <a:pt x="20442" y="17989"/>
                </a:lnTo>
                <a:lnTo>
                  <a:pt x="9824" y="17989"/>
                </a:lnTo>
                <a:lnTo>
                  <a:pt x="9824" y="10800"/>
                </a:lnTo>
                <a:lnTo>
                  <a:pt x="8170" y="10800"/>
                </a:lnTo>
                <a:close/>
              </a:path>
              <a:path fill="darkenLess" w="30266" h="21600">
                <a:moveTo>
                  <a:pt x="17709" y="6448"/>
                </a:moveTo>
                <a:lnTo>
                  <a:pt x="17709" y="4707"/>
                </a:lnTo>
                <a:lnTo>
                  <a:pt x="19485" y="4707"/>
                </a:lnTo>
                <a:lnTo>
                  <a:pt x="19485" y="8224"/>
                </a:lnTo>
                <a:close/>
              </a:path>
              <a:path fill="darkenLess" w="30266" h="21600">
                <a:moveTo>
                  <a:pt x="14210" y="14299"/>
                </a:moveTo>
                <a:lnTo>
                  <a:pt x="16056" y="14299"/>
                </a:lnTo>
                <a:lnTo>
                  <a:pt x="16056" y="17989"/>
                </a:lnTo>
                <a:lnTo>
                  <a:pt x="20442" y="17989"/>
                </a:lnTo>
                <a:lnTo>
                  <a:pt x="20442" y="10800"/>
                </a:lnTo>
                <a:lnTo>
                  <a:pt x="9824" y="10800"/>
                </a:lnTo>
                <a:lnTo>
                  <a:pt x="9824" y="17989"/>
                </a:lnTo>
                <a:lnTo>
                  <a:pt x="1421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2411280" y="623736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previousslide"/>
          </p:cNvPr>
          <p:cNvSpPr/>
          <p:nvPr/>
        </p:nvSpPr>
        <p:spPr>
          <a:xfrm>
            <a:off x="1908000" y="6237360"/>
            <a:ext cx="432000" cy="28872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306" h="21600">
                <a:moveTo>
                  <a:pt x="0" y="0"/>
                </a:moveTo>
                <a:lnTo>
                  <a:pt x="32306" y="0"/>
                </a:lnTo>
                <a:lnTo>
                  <a:pt x="32306" y="21600"/>
                </a:lnTo>
                <a:lnTo>
                  <a:pt x="0" y="21600"/>
                </a:lnTo>
                <a:close/>
              </a:path>
              <a:path fill="lightenLess" w="32306" h="21600">
                <a:moveTo>
                  <a:pt x="0" y="0"/>
                </a:moveTo>
                <a:lnTo>
                  <a:pt x="32306" y="0"/>
                </a:lnTo>
                <a:lnTo>
                  <a:pt x="30906" y="1400"/>
                </a:lnTo>
                <a:lnTo>
                  <a:pt x="1400" y="1400"/>
                </a:lnTo>
                <a:close/>
              </a:path>
              <a:path fill="darken" w="32306" h="21600">
                <a:moveTo>
                  <a:pt x="32306" y="0"/>
                </a:moveTo>
                <a:lnTo>
                  <a:pt x="32306" y="21600"/>
                </a:lnTo>
                <a:lnTo>
                  <a:pt x="30906" y="20200"/>
                </a:lnTo>
                <a:lnTo>
                  <a:pt x="30906" y="1400"/>
                </a:lnTo>
                <a:close/>
              </a:path>
              <a:path fill="darkenLess" w="32306" h="21600">
                <a:moveTo>
                  <a:pt x="323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06" y="20200"/>
                </a:lnTo>
                <a:close/>
              </a:path>
              <a:path fill="lighten" w="323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06" h="21600">
                <a:moveTo>
                  <a:pt x="9146" y="10800"/>
                </a:moveTo>
                <a:lnTo>
                  <a:pt x="23159" y="3794"/>
                </a:lnTo>
                <a:lnTo>
                  <a:pt x="23159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Промышленность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74560"/>
            <a:ext cx="430524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Занято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19%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трудоспособного насел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Дает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31%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ВВП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Машиностроительные,  металлургические и текстильные предприятия сосредоточены в крупных портовых города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943520" y="2336760"/>
            <a:ext cx="4038480" cy="3033720"/>
          </a:xfrm>
          <a:prstGeom prst="rect">
            <a:avLst/>
          </a:prstGeom>
          <a:ln w="0">
            <a:noFill/>
          </a:ln>
        </p:spPr>
      </p:pic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7064280" y="6308640"/>
            <a:ext cx="376200" cy="289080"/>
          </a:xfrm>
          <a:custGeom>
            <a:avLst/>
            <a:gdLst>
              <a:gd name="textAreaLeft" fmla="*/ 18720 w 376200"/>
              <a:gd name="textAreaRight" fmla="*/ 357480 w 3762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8101" h="21600">
                <a:moveTo>
                  <a:pt x="0" y="0"/>
                </a:moveTo>
                <a:lnTo>
                  <a:pt x="28101" y="0"/>
                </a:lnTo>
                <a:lnTo>
                  <a:pt x="28101" y="21600"/>
                </a:lnTo>
                <a:lnTo>
                  <a:pt x="0" y="21600"/>
                </a:lnTo>
                <a:close/>
              </a:path>
              <a:path fill="lightenLess" w="28101" h="21600">
                <a:moveTo>
                  <a:pt x="0" y="0"/>
                </a:moveTo>
                <a:lnTo>
                  <a:pt x="28101" y="0"/>
                </a:lnTo>
                <a:lnTo>
                  <a:pt x="26701" y="1400"/>
                </a:lnTo>
                <a:lnTo>
                  <a:pt x="1400" y="1400"/>
                </a:lnTo>
                <a:close/>
              </a:path>
              <a:path fill="darken" w="28101" h="21600">
                <a:moveTo>
                  <a:pt x="28101" y="0"/>
                </a:moveTo>
                <a:lnTo>
                  <a:pt x="28101" y="21600"/>
                </a:lnTo>
                <a:lnTo>
                  <a:pt x="26701" y="20200"/>
                </a:lnTo>
                <a:lnTo>
                  <a:pt x="26701" y="1400"/>
                </a:lnTo>
                <a:close/>
              </a:path>
              <a:path fill="darkenLess" w="28101" h="21600">
                <a:moveTo>
                  <a:pt x="28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01" y="20200"/>
                </a:lnTo>
                <a:close/>
              </a:path>
              <a:path fill="lighten" w="28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01" h="21600">
                <a:moveTo>
                  <a:pt x="7044" y="10800"/>
                </a:moveTo>
                <a:lnTo>
                  <a:pt x="21057" y="3794"/>
                </a:lnTo>
                <a:lnTo>
                  <a:pt x="21057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7236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Сельское хозяйство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000" y="1576080"/>
            <a:ext cx="46227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46%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всего экспорта приходится на сельскохозяйственную продукцию: </a:t>
            </a:r>
            <a:br>
              <a:rPr sz="2400"/>
            </a:b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мясо, масло, сыр, шерст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Развиты лесное хозяйство, лесозаготовки, деревообрабатывающая, целлюлозно – бумажная отрас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32320" y="1440000"/>
            <a:ext cx="3613320" cy="23367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783400" y="3843360"/>
            <a:ext cx="2755800" cy="1803240"/>
          </a:xfrm>
          <a:prstGeom prst="rect">
            <a:avLst/>
          </a:prstGeom>
          <a:ln w="0">
            <a:noFill/>
          </a:ln>
        </p:spPr>
      </p:pic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7386480" y="646740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" action="ppaction://hlinkshowjump?jump=previousslide"/>
          </p:cNvPr>
          <p:cNvSpPr/>
          <p:nvPr/>
        </p:nvSpPr>
        <p:spPr>
          <a:xfrm>
            <a:off x="6962760" y="6467400"/>
            <a:ext cx="352440" cy="289080"/>
          </a:xfrm>
          <a:custGeom>
            <a:avLst/>
            <a:gdLst>
              <a:gd name="textAreaLeft" fmla="*/ 18720 w 352440"/>
              <a:gd name="textAreaRight" fmla="*/ 333720 w 352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328" h="21600">
                <a:moveTo>
                  <a:pt x="0" y="0"/>
                </a:moveTo>
                <a:lnTo>
                  <a:pt x="26328" y="0"/>
                </a:lnTo>
                <a:lnTo>
                  <a:pt x="26328" y="21600"/>
                </a:lnTo>
                <a:lnTo>
                  <a:pt x="0" y="21600"/>
                </a:lnTo>
                <a:close/>
              </a:path>
              <a:path fill="lightenLess" w="26328" h="21600">
                <a:moveTo>
                  <a:pt x="0" y="0"/>
                </a:moveTo>
                <a:lnTo>
                  <a:pt x="26328" y="0"/>
                </a:lnTo>
                <a:lnTo>
                  <a:pt x="24928" y="1400"/>
                </a:lnTo>
                <a:lnTo>
                  <a:pt x="1400" y="1400"/>
                </a:lnTo>
                <a:close/>
              </a:path>
              <a:path fill="darken" w="26328" h="21600">
                <a:moveTo>
                  <a:pt x="26328" y="0"/>
                </a:moveTo>
                <a:lnTo>
                  <a:pt x="26328" y="21600"/>
                </a:lnTo>
                <a:lnTo>
                  <a:pt x="24928" y="20200"/>
                </a:lnTo>
                <a:lnTo>
                  <a:pt x="24928" y="1400"/>
                </a:lnTo>
                <a:close/>
              </a:path>
              <a:path fill="darkenLess" w="26328" h="21600">
                <a:moveTo>
                  <a:pt x="26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28" y="20200"/>
                </a:lnTo>
                <a:close/>
              </a:path>
              <a:path fill="lighten" w="26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28" h="21600">
                <a:moveTo>
                  <a:pt x="6158" y="10800"/>
                </a:moveTo>
                <a:lnTo>
                  <a:pt x="20171" y="3794"/>
                </a:lnTo>
                <a:lnTo>
                  <a:pt x="20171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3" action="ppaction://hlinksldjump"/>
          </p:cNvPr>
          <p:cNvSpPr/>
          <p:nvPr/>
        </p:nvSpPr>
        <p:spPr>
          <a:xfrm>
            <a:off x="7054920" y="60357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ванова Н.В. Школа №458</dc:creator>
  <dc:description/>
  <dc:language>en-US</dc:language>
  <cp:lastModifiedBy>Галя</cp:lastModifiedBy>
  <dcterms:modified xsi:type="dcterms:W3CDTF">2010-10-07T12:21:46Z</dcterms:modified>
  <cp:revision>3</cp:revision>
  <dc:subject>География</dc:subject>
  <dc:title>Новая Зеландия</dc:title>
</cp:coreProperties>
</file>